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3FC4-6B34-44FC-B10A-186E8B84D7F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Rise and Fall of the Populist Part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7-189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se and Fall of the Populist Par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7-189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’ Problem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 prices for cro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 had no cash . . .went further into debt. . . foreclosed on mortgag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lroads charged outrageous prices to ship crops (no regulation!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’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prices fo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had no cash . . .went further into debt. . . foreclosed on mortg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lroads charged outrageous prices to ship crops (no regulation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rmers’ Demands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ulate the railroad companies! (stop them from charging such high rate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ke cash more available (back the dollar with silver, not gold, so dollar will be worth les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litical demands: single term for President and Vice-President; secret ballot; popular election of Sen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get industrial workers to support them: 8-hour workday; restrict immig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’ Deman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the railroad companies! (stop them from charging such high ra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cash more available (back the dollar with silver, not gold, so dollar will be worth l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demands: single term for President and Vice-President; secret ballot; popular election of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industrial workers to support them: 8-hour workday; restrict immi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 Groups Representing Farmers’ Interes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67:  The Patrons of Husbandry (The Grange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80s:  Farmers’ Alliance and Colored Farmers’ National Allia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2:  Birth of the Populist, or People’s Par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Groups Representing Farmers’ Inte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7:  The Patrons of Husbandry (The Gran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0s:  Farmers’ Alliance and Colored Farmers’ National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2:  Birth of the Populist, or People’s Pa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6 Elec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pulists decide to improve their chances by supporting a Democratic candidate: William Jennings Bryan, who agreed to support the Silver-backed dolla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6 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ists decide to improve their chances by supporting a Democratic candidate: William Jennings Bryan, who agreed to support the Silver-backed dol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470-A8EA-483C-BCB2-931EE952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04C-279E-46E9-93BB-ABED75A1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5DE0-FC7B-4DB1-B63B-D17F9089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294-079E-4812-9435-6C8BA52C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9167-2EE2-4326-82EA-AE845F63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9289-2CD8-4F4E-9540-7702B8EAF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8CE9-36D4-44FC-BA3D-FE8243F09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33D1-DED8-4D22-8B0A-7A42A918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9DDF-C133-4B3C-9D9D-F88F8D8C1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EA91-B6E4-4902-860E-3C78092D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8DEF-ABF1-41B4-8E52-B0E1454B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5F48-93E6-47DE-9134-1774420C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635A-4E8B-4184-9FCB-32F989369B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862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ise and Fall of the Populist Par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67-1896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Proble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 prices for cr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rmers had no cash . . .went further into debt. . . foreclosed on mortg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lroads charged outrageous prices to ship crops (no regulation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rmers’ Demand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e the railroad companies! (stop them from charging such high ra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ash more available (back the dollar with silver, not gold, so dollar will be worth l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tical demands: single term for President and Vice-President; secret ballot; popular election of Sen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industrial workers to support them: 8-hour workday; restrict im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fferent Groups Representing Farmers’ Intere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67:  The Patrons of Husbandry (The Gran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80s:  Farmers’ Alliance and Colored Farmers’ National All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92:  Birth of the Populist, or People’s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057400" y="380952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map 1892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9244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5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2 Presidential Election:  Populist Candidate won over a million vot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896 E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pulists decide to improve their chances by supporting a Democratic candidate: William Jennings Bryan, who agreed to support the Silver-backed dol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Object 5"/>
          <p:cNvGraphicFramePr/>
          <p:nvPr/>
        </p:nvGraphicFramePr>
        <p:xfrm>
          <a:off x="2133720" y="2971800"/>
          <a:ext cx="5630760" cy="346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563076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map 1896"/>
          <p:cNvPicPr/>
          <p:nvPr/>
        </p:nvPicPr>
        <p:blipFill>
          <a:blip r:embed="rId1"/>
          <a:stretch/>
        </p:blipFill>
        <p:spPr>
          <a:xfrm>
            <a:off x="0" y="1506600"/>
            <a:ext cx="9144000" cy="4960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609480" y="3808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96 Presidential Election:  Bryan loses but carries most of the South and W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4:38:46Z</dcterms:created>
  <dc:creator>Abby Reisman</dc:creator>
  <dc:description/>
  <dc:language>en-US</dc:language>
  <cp:lastModifiedBy>Legion</cp:lastModifiedBy>
  <dcterms:modified xsi:type="dcterms:W3CDTF">2017-07-05T13:24:08Z</dcterms:modified>
  <cp:revision>19</cp:revision>
  <dc:subject/>
  <dc:title>PowerPoint Presentation</dc:title>
</cp:coreProperties>
</file>